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DBF7D-EDFA-417A-90E4-23BBD32F8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E7B6D-56AB-4C52-ADFE-7CD24B329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30F1F-50D7-443B-B3E7-0D434EAF0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8BE1B-E2BB-4948-94FD-1FEF9404F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40798-F441-4749-91DD-BC0289BD9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40CB3-13C4-49E1-95B7-E16C5F72F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F2BFE-36D1-43A1-9D6F-D46F1759C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5A706-204A-4C89-BE7E-7BFA68088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62513-EAC4-4F94-803A-387AD6AE8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DA022-ED6D-4A96-9D65-E3DAC7744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93D7B-AAE8-4D2A-ABDB-8E1E53CA3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275FB-F9D9-487F-A878-AF8584709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57571-D756-45CA-9AA9-495182D2BF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77724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view of Chapter 1: Essential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0" y="882720"/>
            <a:ext cx="9144000" cy="59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How can one flee from G-d?  Is Hashem Univers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Why does Yonah Flee from his Miss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Possible answers: Yalkut Shimoni &amp; Abarvane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Why doesn’t Hashem simply destroy Yonah and find another proph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ok at the interesting Midrash the clip brings to ligh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What is Yonah spiritual/ psychological journe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Follow the words kum and yore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How does Yonah encounter with the sailors cause them to chang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They learn that Hashem is the true G-d as seen at the end of the s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618240" y="189000"/>
            <a:ext cx="205092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pter 2: What is with the Fish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0" y="691920"/>
            <a:ext cx="507672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ok at page 2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e that the text is arranged in 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iastic structure our attention to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aning of the prayer the ce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rs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do think is the meaning of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s pray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ke a look at the word for Fish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ext what is peculiar about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lling of the wor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5316480" y="1125360"/>
            <a:ext cx="3567240" cy="39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8T17:31:30Z</dcterms:created>
  <dc:creator>dzoppo</dc:creator>
  <dc:description/>
  <dc:language>en-US</dc:language>
  <cp:lastModifiedBy>Damian</cp:lastModifiedBy>
  <dcterms:modified xsi:type="dcterms:W3CDTF">2008-12-20T16:15:30Z</dcterms:modified>
  <cp:revision>2</cp:revision>
  <dc:subject/>
  <dc:title>Review of Chapter 1: Essential Questions</dc:title>
</cp:coreProperties>
</file>